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C44-9CED-4467-B1B6-C0BD6369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47F-5821-4781-9B50-5DB67BD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780-82F9-4022-97C4-6370614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F55-9950-4A5D-B223-319FB327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4EC-7A0E-4CF0-ACA0-C6B8461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810-63C2-4F29-86D1-C556ED21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F94-FCA8-4F88-8F45-31BCE13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C39-F21C-451F-85CA-125B7983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02C-9F61-431E-95AF-E146EEAC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5E8-F7E3-4DBE-AA7C-3B9B3B4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D3A-AEC4-4BDF-A5D4-7683287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37C-7547-49E8-932D-5AAA98F4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EECD-339B-4EA4-8136-AE67F619A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dvent Today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dvent means ‘the coming’ of somet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dvent is a period lasting FOUR Sundays (not weeks!) preparing for the celebration of Jesus’ birth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first Sunday of Advent also marks the beginning of the Christian Church's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Because the celebration is such an important event, Christians want to make themselves completely rea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www.woodlands-junior.kent.sch.uk/customs/Xmas/pics/birth.jpg"/>
          <p:cNvPicPr/>
          <p:nvPr/>
        </p:nvPicPr>
        <p:blipFill>
          <a:blip r:embed="rId1"/>
          <a:stretch/>
        </p:blipFill>
        <p:spPr>
          <a:xfrm>
            <a:off x="6629400" y="228600"/>
            <a:ext cx="2209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Why is the Advent Wreath so special to Christian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ircle of the wreath reminds Christians of God, His eternity and endless mercy, which has no beginning or e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green of the wreath speaks of the hope that Chrisitans have in God, the hope of newness, of renewal, of eternal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Program Files\Microsoft Office\Clipart\Pub60Cor\so00610_.wmf"/>
          <p:cNvPicPr/>
          <p:nvPr/>
        </p:nvPicPr>
        <p:blipFill>
          <a:blip r:embed="rId1"/>
          <a:stretch/>
        </p:blipFill>
        <p:spPr>
          <a:xfrm>
            <a:off x="228600" y="228600"/>
            <a:ext cx="13622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Why have four candles on the  Advent Wreat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four outer candles represent the period of waiting during the four Sundays of Ad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green of the wreath speaks of the hope that Christians have in God, the hope of newness, of renewal, of eternal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Program Files\Microsoft Office\Clipart\standard\stddir1\bd00114_.wmf"/>
          <p:cNvPicPr/>
          <p:nvPr/>
        </p:nvPicPr>
        <p:blipFill>
          <a:blip r:embed="rId1"/>
          <a:stretch/>
        </p:blipFill>
        <p:spPr>
          <a:xfrm>
            <a:off x="380880" y="152280"/>
            <a:ext cx="816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Th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four</a:t>
            </a:r>
            <a:r>
              <a:rPr b="0" lang="en-GB" sz="40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 traditional advent t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HOPE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PEACE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LOVE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J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 fifth candle is sometimes lit in the middle to celebrate the birth of Je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Program Files\Microsoft Office\Clipart\standard\stddir4\so02065_.wmf"/>
          <p:cNvPicPr/>
          <p:nvPr/>
        </p:nvPicPr>
        <p:blipFill>
          <a:blip r:embed="rId1"/>
          <a:stretch/>
        </p:blipFill>
        <p:spPr>
          <a:xfrm>
            <a:off x="5943600" y="2971800"/>
            <a:ext cx="30542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LASS ADVENT WR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n pairs think about what your themes or preparations could be for this time/season write a lis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round your hand on the green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long each finger write one of your advent themes/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ut out and hand in/stick on card circle to make a big class advent w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17"/>
          <p:cNvSpPr/>
          <p:nvPr/>
        </p:nvSpPr>
        <p:spPr>
          <a:xfrm>
            <a:off x="6727680" y="4869000"/>
            <a:ext cx="66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9"/>
          <p:cNvSpPr/>
          <p:nvPr/>
        </p:nvSpPr>
        <p:spPr>
          <a:xfrm>
            <a:off x="6727680" y="4944960"/>
            <a:ext cx="173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0"/>
          <p:cNvSpPr/>
          <p:nvPr/>
        </p:nvSpPr>
        <p:spPr>
          <a:xfrm>
            <a:off x="6423120" y="524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21" descr="C:\Program Files\Microsoft Office\Clipart\Pub60Cor\na02125_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00800" y="4800600"/>
            <a:ext cx="1547640" cy="175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8:07:56Z</dcterms:created>
  <dc:creator>home</dc:creator>
  <dc:description/>
  <dc:language>en-US</dc:language>
  <cp:lastModifiedBy>Jacki Kratz</cp:lastModifiedBy>
  <dcterms:modified xsi:type="dcterms:W3CDTF">2011-11-30T13:41:19Z</dcterms:modified>
  <cp:revision>6</cp:revision>
  <dc:subject/>
  <dc:title>Advent Today</dc:title>
</cp:coreProperties>
</file>